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48DDD-9E4B-4E53-BC73-A76B1EEF7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FF8F2-DF6B-47F8-A2C1-EAB818AA5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D25C8-29F8-443A-BEF8-AEDB1B376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2078B-6D0B-48DF-85FE-E35AD8655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8DA71-71E2-423F-ABCA-457F7721D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5DB3B-B728-4893-9736-A589409BD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253E3-3E31-4BED-AA1F-F422433BB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9DAD3-6308-480B-8E00-2942D04F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4AFA6-9BAD-4FCA-AC34-D403B4B25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BC79-1F3B-46AB-9557-0A5765719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A747-6315-4BE4-9F21-EB51314FC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19BE0-7142-4008-86ED-1A4CA47DE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1527A-8782-4312-9617-6C5729D507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rot="703200">
            <a:off x="2971440" y="1980720"/>
            <a:ext cx="3781440" cy="1662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esiunea iunie-iulie</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Elev</cp:lastModifiedBy>
  <dcterms:modified xsi:type="dcterms:W3CDTF">2012-06-18T11:11:01Z</dcterms:modified>
  <cp:revision>30</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